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move the slide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2A752-C382-41A1-8168-E965EF18DBA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B310F-5F77-4831-8F82-4D22E361BBE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ED66B-C6D9-43A3-A093-5DD7F61EE97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8125-1E0E-4561-87B6-354B69B25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0CAE-19DE-4E33-94AA-723090748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8CAD58-AA3D-40B0-9FF5-73D0230EA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5F111E-A82C-4076-9256-17134E0DA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76CB63-FF8E-4E43-B8BD-F1EF3AE10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36AD11-4A00-46E5-8EC7-ED2F3A6E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68C099-02C1-426A-B8DF-30BE2363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BA05C0-B11E-4720-A006-4E238A05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D8C68D-70B8-4321-B47E-B4A4EFEF7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D4DED2-E131-4EE1-BED7-61CCF31AB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376A9D-2142-46B7-BC1A-7EFEFFE6D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494C72-DD0B-41E1-ABBB-F27375EAC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5C08-4E67-474C-A163-C06B67F08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E1317E-1922-4BB8-B884-D01629F9E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BEA306-99D7-4FF9-98D3-C07D2E17A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F6811D-82D1-4257-84BF-75E717EB2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64325A-5968-44BA-82AA-162B17EB5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2B3503-6A74-4976-AD4A-720C6A48A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9036B3-5083-41E9-A015-5C0423B6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89FF8A-BB3F-4573-9909-76A78CEA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A26621-F95C-47BB-806F-783B5961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18438C-5035-4AA8-BB2A-C3566AD58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B16C5A-0128-4D13-A875-7E58877B1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2740-22DE-4647-A4D3-74287C0AD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04F7E8-A3A3-4827-BCBE-1971565DD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43C5EB-7B6E-462C-97F6-735FE0A8C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7C9F8B-3527-4DA4-B422-0D90E938E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010473-D46C-4456-B89C-5C33BFCA8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B012D6-F7CD-4662-9289-2D5B23165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869A99-4F3C-4825-8953-78B8F8F27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87E02D-91BA-44AD-981B-E7DA6BEEB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6CF9CF-1A63-4A60-8708-7E3328DE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EA3DEB-F713-4467-BF99-BF7DB6F1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6D48A2-564D-4085-A5C6-773EB551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98D80-EFC7-4948-9FB0-72FFBE2FE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53B0CD-AEEA-4211-A376-E11CAF422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09DF33-5CC5-44D7-A326-EADBE37FA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46A41F-19E2-4740-9A08-4C1F06539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44D1C-8766-4ED9-9223-0FDBC7C7D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17C55-884C-4E2B-884C-F7EED67E9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DD35E-62D9-4F91-84C7-AF32D1F98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3E679-28E8-495A-AEB7-17F2EDBDC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0C06F-410B-44EC-B074-57DA72DD5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C5418-AF2D-445D-845F-2F30ED38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AA43-0708-4384-9D41-42BD35B20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E04DD-BF50-4ED5-9E93-3F7F5BE5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53EA9-4C17-4600-836F-F23897F2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8D0C6-CC2D-49A8-9711-A35583A2D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B369F-A01C-467B-BB94-43679748C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2C23F-FB1E-4E85-B1FB-45252A9D9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0D249-702A-4E7A-B712-D2234AE72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FD138-765F-449E-8AE2-CCA4C3707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9AD47-8504-4DBE-8E64-7F8472E92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0639B-11A2-4C51-9BEE-7B2B4FF4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15294-D0BD-4E61-B5FA-5CC0A0FA7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D4C2-A22C-47D4-81F4-48BA1D66E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96565-640D-4274-A9C4-7F9E8AFF4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F644A-4D73-4691-AA6C-621820FE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15F70-F115-49E0-9C22-B8C86254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03823-8366-4526-A247-0D88A89B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B9E76-47ED-4066-A405-0E4CE42AA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7A471-9144-439D-B8BD-7E4B3373A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8AC2A-DEE0-4FED-8F8E-1FEC8D12E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F3821-FCB4-4658-ABD7-4FA3E735B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C85B5-AB6E-46ED-88BB-230BEDE55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A4D42-A8C4-4D6E-AC76-1D7C0D22F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1031-93A9-4E86-B2AF-93F27FCC9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85E96-E34E-4574-BD3E-C84D9E51F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B5CE9-337C-49D1-93E8-E0F59917D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9F791-57C9-40AA-91A8-0E4EB56D7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A4C2F-7F23-4051-B689-143DE8B6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F0402-B068-4081-953E-BA63D1D1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CDD14-EB0C-4FAE-8DDB-9B01EEB1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3A433-B1DB-412D-8FD3-9DDF419A7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35952-4A26-4D74-A370-3DE7B0A8E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EB02D-E772-4B55-B90B-06A419CC1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BC9EA-8D2C-4F0E-AC41-CAB60E729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F7C2-A796-4AB6-8F3F-792F671FA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FC9B4-82F6-408C-A7E6-7B6718BAB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49A75-3000-4935-8F5E-BE8AF44A5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7DA60-BC61-4D07-96E9-C6434D479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5BFDA-D8B9-4BD1-96F9-A63B66201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AAF26-230B-4E22-9F30-D27BA8E3F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EACDE-3EC6-40CA-A65D-B674C635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FD8A5-DB94-4197-BC18-935B8704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C7B79-094C-41AB-B33A-EDC1C904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C2E2F-ECCB-4991-A763-615C047C4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EEC74-C3B0-44E7-B9B8-D21D6F283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676F-B5E4-4D90-943D-1C2DEB301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3F840-69A7-4582-A085-D2DDA8440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B8C76-AC91-4D04-8FB2-F79F62601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2BAA2-EF4F-428A-AAAC-FD43C5EE3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0EF84-99B9-4744-A81E-2DC67910D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D4245-9A6C-42AC-8028-B25048C24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30DD5-2B02-402C-9E90-A3D4E1D2E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688BCE-DC70-419A-8F4B-80E8D4860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72377-30E3-4F9D-8F49-F5D41EA2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743991-ABA6-4A2B-A1D8-1536855E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0D6EB-A2B9-4214-990B-8CA29936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E847-EE15-468E-9351-019303E8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DB6A0-682C-499B-A8E1-6C9487E5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BDD083-BC04-48D4-82B1-CE5CD973A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5B05E-9CF1-443E-8C68-9958F0539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1912D5-8CA8-41BD-A8BF-C2F7AABE5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DF9FE-7BB3-4DF3-A674-E63D7705B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0B0099-69B1-46B3-8E5D-99D1F3BC9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EE50A3-8705-4D20-AC4C-F86B72235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C1FDCB-0183-4649-B8E2-0B3E4CF83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58FFB8-688E-49BF-B834-D0A9A1630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3078D-7826-4C50-902F-DCD2BF62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088A-F77C-4726-A272-DC50AA8B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33A40-D09A-40B5-A632-B2655AED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1C5BF-AB3E-49CB-A0F4-76E1FB6B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298F01-13B1-40FC-87C1-F7557BFA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02FEB7-F38B-424B-80BD-6A6E5B0AF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00CB1-EC60-428D-BED6-BCA3A98B5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F33288-4B1A-4F59-BE67-338CB08E1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A81E0D-C1BE-4932-8045-033233759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97E530-D12D-4A40-9CA0-9DDE0AE7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C5C5F-5BF8-4F68-9330-7C67AB174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B925F-24CF-427D-AD71-BA00C47CF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DAE2-0E80-43CF-8C97-B74B15CC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C9AA59-0942-4A69-9644-AFB13D3D9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7DB0E0-E791-4D04-B99B-CA4C7D6B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AD4B6D-D9BD-4215-9725-F4734DF1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0CBF38-396A-4516-B143-B0896340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684F72-7F24-4C00-BEE8-96B610998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16AFB4-4D8C-4C87-A8B8-319DB7051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157C3-A228-463F-B368-4998741D3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1C6BBB-2358-4C57-ADDE-4C7BE943E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53C0F3-8F50-467D-80FA-FD9ED4A6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AF1015-E1C0-4D2B-B1BF-8308EDFDE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33448-3B2F-4759-BD0E-936E39FE2F4D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5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8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9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30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5A99A-26E0-44F8-9A46-0D636EBD4039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9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3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9902-6641-4D1E-98E5-91E34BC2D39E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685800" y="3197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C69E3-6610-4916-BEC0-92781DE51CF3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7308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5330880" y="6400440"/>
            <a:ext cx="37339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44E2E-8338-44B7-AD14-A018C7337D98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2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矩形 8"/>
          <p:cNvSpPr/>
          <p:nvPr/>
        </p:nvSpPr>
        <p:spPr>
          <a:xfrm>
            <a:off x="685800" y="3143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85D05-8E99-4CFF-A01A-4FDA24D12DE0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7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BEFD8-BFE3-491E-9E0A-1BA06953ED71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D83E5-E950-418C-BAF9-9781BD25BD13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5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6FA6F-D017-4317-9275-6EB4D2563ABC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0E011-94C6-41D8-8D4E-9E987BCC289F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1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2" name="矩形 8"/>
          <p:cNvSpPr/>
          <p:nvPr/>
        </p:nvSpPr>
        <p:spPr>
          <a:xfrm>
            <a:off x="2786040" y="1054080"/>
            <a:ext cx="59040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E4975-9F07-442C-BF40-7321B8FDAB3E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4000" y="2852640"/>
            <a:ext cx="7848360" cy="139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6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宋体"/>
                <a:ea typeface="宋体"/>
              </a:rPr>
              <a:t>第十章 纤毛虫</a:t>
            </a:r>
            <a:br>
              <a:rPr sz="4800"/>
            </a:br>
            <a:r>
              <a:rPr b="1" lang="en-US" sz="4800" spc="-1" strike="noStrike">
                <a:solidFill>
                  <a:srgbClr val="0000cc"/>
                </a:solidFill>
                <a:latin typeface="宋体"/>
                <a:ea typeface="宋体"/>
              </a:rPr>
              <a:t>Ciliate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0000cc"/>
                </a:solidFill>
                <a:latin typeface="宋体"/>
                <a:ea typeface="宋体"/>
              </a:rPr>
              <a:t>结肠小袋纤毛虫</a:t>
            </a:r>
            <a:br>
              <a:rPr sz="4800"/>
            </a:br>
            <a:r>
              <a:rPr b="1" i="1" lang="en-US" sz="4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Balantidium coli</a:t>
            </a:r>
            <a:endParaRPr b="0" lang="en-US" sz="48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1403280" y="5300640"/>
            <a:ext cx="640080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图片 5" descr=""/>
          <p:cNvPicPr/>
          <p:nvPr/>
        </p:nvPicPr>
        <p:blipFill>
          <a:blip r:embed="rId2"/>
          <a:stretch/>
        </p:blipFill>
        <p:spPr>
          <a:xfrm>
            <a:off x="1835280" y="3976560"/>
            <a:ext cx="3201840" cy="2881440"/>
          </a:xfrm>
          <a:prstGeom prst="rect">
            <a:avLst/>
          </a:prstGeom>
          <a:ln w="0">
            <a:noFill/>
          </a:ln>
        </p:spPr>
      </p:pic>
      <p:pic>
        <p:nvPicPr>
          <p:cNvPr id="491" name="图片 4" descr=""/>
          <p:cNvPicPr/>
          <p:nvPr/>
        </p:nvPicPr>
        <p:blipFill>
          <a:blip r:embed="rId3"/>
          <a:stretch/>
        </p:blipFill>
        <p:spPr>
          <a:xfrm>
            <a:off x="5867280" y="2781360"/>
            <a:ext cx="3043440" cy="302400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形态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68360" y="12682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滋养体：椭圆形，无色透明或淡灰绿色，全身披有纤毛。有胞口、胞肛结构。虫体中、后部各有一伸缩泡。染色标本可见大、小核各一个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4" name="矩形 2"/>
          <p:cNvSpPr/>
          <p:nvPr/>
        </p:nvSpPr>
        <p:spPr>
          <a:xfrm>
            <a:off x="324000" y="3068640"/>
            <a:ext cx="7993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包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球形或近球形，淡黄或淡绿色，囊壁厚，染色后可见明显的大核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内容占位符 2" descr=""/>
          <p:cNvPicPr/>
          <p:nvPr/>
        </p:nvPicPr>
        <p:blipFill>
          <a:blip r:embed="rId2"/>
          <a:stretch/>
        </p:blipFill>
        <p:spPr>
          <a:xfrm>
            <a:off x="1990800" y="1262160"/>
            <a:ext cx="5533920" cy="502452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生活史</a:t>
            </a:r>
            <a:r>
              <a:rPr b="1" lang="zh-CN" sz="3200" spc="-1" strike="noStrike">
                <a:solidFill>
                  <a:srgbClr val="2f2f2f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grpSp>
        <p:nvGrpSpPr>
          <p:cNvPr id="497" name="组合 5"/>
          <p:cNvGrpSpPr/>
          <p:nvPr/>
        </p:nvGrpSpPr>
        <p:grpSpPr>
          <a:xfrm>
            <a:off x="2241720" y="1346040"/>
            <a:ext cx="5287680" cy="4365720"/>
            <a:chOff x="2241720" y="1346040"/>
            <a:chExt cx="5287680" cy="4365720"/>
          </a:xfrm>
        </p:grpSpPr>
        <p:sp>
          <p:nvSpPr>
            <p:cNvPr id="498" name="TextBox 3"/>
            <p:cNvSpPr/>
            <p:nvPr/>
          </p:nvSpPr>
          <p:spPr>
            <a:xfrm>
              <a:off x="3852000" y="3285000"/>
              <a:ext cx="1080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宋体"/>
                </a:rPr>
                <a:t>人体内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99" name="TextBox 6"/>
            <p:cNvSpPr/>
            <p:nvPr/>
          </p:nvSpPr>
          <p:spPr>
            <a:xfrm>
              <a:off x="2241720" y="3295800"/>
              <a:ext cx="1080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cc"/>
                  </a:solidFill>
                  <a:latin typeface="宋体"/>
                </a:rPr>
                <a:t>外环境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0" name="TextBox 7"/>
            <p:cNvSpPr/>
            <p:nvPr/>
          </p:nvSpPr>
          <p:spPr>
            <a:xfrm>
              <a:off x="3973680" y="1699920"/>
              <a:ext cx="1080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脱囊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1" name="TextBox 8"/>
            <p:cNvSpPr/>
            <p:nvPr/>
          </p:nvSpPr>
          <p:spPr>
            <a:xfrm>
              <a:off x="6372000" y="2915280"/>
              <a:ext cx="1080000" cy="36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2" name="TextBox 9"/>
            <p:cNvSpPr/>
            <p:nvPr/>
          </p:nvSpPr>
          <p:spPr>
            <a:xfrm>
              <a:off x="6197760" y="4016160"/>
              <a:ext cx="133164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宋体"/>
                </a:rPr>
                <a:t>结肠内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宋体"/>
                </a:rPr>
                <a:t>定居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3" name="TextBox 10"/>
            <p:cNvSpPr/>
            <p:nvPr/>
          </p:nvSpPr>
          <p:spPr>
            <a:xfrm>
              <a:off x="2700000" y="1346040"/>
              <a:ext cx="14482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宋体"/>
                </a:rPr>
                <a:t>感染期包囊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4" name="矩形 4"/>
            <p:cNvSpPr/>
            <p:nvPr/>
          </p:nvSpPr>
          <p:spPr>
            <a:xfrm>
              <a:off x="3973680" y="5229360"/>
              <a:ext cx="66960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5" name="矩形 12"/>
            <p:cNvSpPr/>
            <p:nvPr/>
          </p:nvSpPr>
          <p:spPr>
            <a:xfrm>
              <a:off x="2268360" y="5351400"/>
              <a:ext cx="66960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1187280" y="691920"/>
            <a:ext cx="77774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生活史过程：包囊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滋养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包囊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寄生部位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结肠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生殖方式：以二分裂为主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传染源：猪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感染阶段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感染期包囊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感染方式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经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致病与诊断</a:t>
            </a:r>
            <a:r>
              <a:rPr b="1" lang="zh-CN" sz="3200" spc="-1" strike="noStrike">
                <a:solidFill>
                  <a:srgbClr val="2f2f2f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致病：滋养体分泌透明质酸酶并借助机械运动侵入结肠黏膜及黏膜下层，引起溃疡（似溶组织内阿米巴痢疾）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可能是一种机会致病原虫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表现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型、急性型和慢性型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型：即初期潜伏型。在粪便中可找到虫体，但无相关症状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矩形 2"/>
          <p:cNvSpPr/>
          <p:nvPr/>
        </p:nvSpPr>
        <p:spPr>
          <a:xfrm>
            <a:off x="468360" y="3429000"/>
            <a:ext cx="8280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诊断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直接涂片查滋养体，乙状结肠镜取黏膜组织活检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0" name="矩形 3"/>
          <p:cNvSpPr/>
          <p:nvPr/>
        </p:nvSpPr>
        <p:spPr>
          <a:xfrm>
            <a:off x="382680" y="714240"/>
            <a:ext cx="8286480" cy="17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型：即痢疾型。发病突然，腹痛、腹泻、黏液血便；可有并发症，也可累及肠外组织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慢性型：周期性腹泻，或腹泻、便秘交替，常排出黏液但无脓血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流行与防治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流行</a:t>
            </a:r>
            <a:r>
              <a:rPr b="1" lang="zh-CN" sz="3200" spc="-1" strike="noStrike">
                <a:solidFill>
                  <a:srgbClr val="2f2f2f"/>
                </a:solidFill>
                <a:latin typeface="宋体"/>
                <a:ea typeface="宋体"/>
              </a:rPr>
              <a:t>  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755640" y="11966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 algn="just">
              <a:lnSpc>
                <a:spcPts val="4198"/>
              </a:lnSpc>
              <a:spcBef>
                <a:spcPts val="1199"/>
              </a:spcBef>
              <a:buClr>
                <a:srgbClr val="2f2f2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世界性分布。在我国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个省、自治区有散在病例报道。宿主广，已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多种动物可感染此虫，猪为重要的传染源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8040" indent="-608040" algn="just">
              <a:lnSpc>
                <a:spcPts val="4198"/>
              </a:lnSpc>
              <a:spcBef>
                <a:spcPts val="1199"/>
              </a:spcBef>
              <a:buClr>
                <a:srgbClr val="2f2f2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粪便污染及蝇的机械携带包嚢是重要的传播方式，主要是包嚢污染的食物和饮水经口感染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8040" indent="-608040"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防治原则同溶组织内阿米巴，注意个人和饮食卫生，加强猪粪便的管理，保护水源，用甲硝唑治疗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8040" indent="-608040"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6T13:12:27Z</dcterms:created>
  <dc:creator>shi</dc:creator>
  <dc:description/>
  <dc:language>en-US</dc:language>
  <cp:lastModifiedBy>hzg</cp:lastModifiedBy>
  <dcterms:modified xsi:type="dcterms:W3CDTF">2015-10-05T12:54:03Z</dcterms:modified>
  <cp:revision>27</cp:revision>
  <dc:subject/>
  <dc:title>结肠小袋纤毛虫 Balantidium coli</dc:title>
</cp:coreProperties>
</file>